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C1A9-4C1B-4CDE-A195-E1D133B58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0C2D-9CED-4680-AD98-6035F94E1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914F-798C-475F-950A-A5488F9CC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9D9-1A68-48E3-862E-B8CCB5A3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2D4-1009-4892-B21B-5871ED1A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E20-5D43-40AD-A29F-045F12F4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CF1-A8F9-4B72-818D-4B723AB3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00D-3FD0-452D-BF15-2E5C1C5B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BE42-7139-4A22-B7CA-56677C0A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193-16F3-40CD-A398-1177CCFF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9E0-7C30-42BE-A1F0-217F8B57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A5E-E9A0-482D-9B80-C7A51791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08F-425E-479B-9E3D-4752D2F6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5AA-6884-4239-9A1F-E9F263E3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C59-973D-48E5-8BF6-D8143EBD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3F05-6ACB-401C-8354-C01C7F10C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面や線を動かしてできる立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フローチャート : 磁気ディスク 1"/>
          <p:cNvSpPr/>
          <p:nvPr/>
        </p:nvSpPr>
        <p:spPr>
          <a:xfrm>
            <a:off x="1042920" y="2924280"/>
            <a:ext cx="1563840" cy="2543040"/>
          </a:xfrm>
          <a:prstGeom prst="flowChartMagneticDisk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ローチャート : 直接アクセス記憶 2"/>
          <p:cNvSpPr/>
          <p:nvPr/>
        </p:nvSpPr>
        <p:spPr>
          <a:xfrm>
            <a:off x="4859280" y="3848040"/>
            <a:ext cx="3097440" cy="1622520"/>
          </a:xfrm>
          <a:prstGeom prst="flowChartMagneticDrum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方体 3"/>
          <p:cNvSpPr/>
          <p:nvPr/>
        </p:nvSpPr>
        <p:spPr>
          <a:xfrm>
            <a:off x="2987640" y="2924280"/>
            <a:ext cx="1647720" cy="30891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:\DCIM\100SHARP\DVC00021.JPG"/>
          <p:cNvPicPr/>
          <p:nvPr/>
        </p:nvPicPr>
        <p:blipFill>
          <a:blip r:embed="rId1"/>
          <a:stretch/>
        </p:blipFill>
        <p:spPr>
          <a:xfrm>
            <a:off x="-63360" y="-31680"/>
            <a:ext cx="920736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H:\DCIM\100SHARP\DVC00018.JPG"/>
          <p:cNvPicPr/>
          <p:nvPr/>
        </p:nvPicPr>
        <p:blipFill>
          <a:blip r:embed="rId1"/>
          <a:stretch/>
        </p:blipFill>
        <p:spPr>
          <a:xfrm>
            <a:off x="-63360" y="0"/>
            <a:ext cx="9207360" cy="6905520"/>
          </a:xfrm>
          <a:prstGeom prst="rect">
            <a:avLst/>
          </a:prstGeom>
          <a:ln w="0">
            <a:noFill/>
          </a:ln>
        </p:spPr>
      </p:pic>
      <p:sp>
        <p:nvSpPr>
          <p:cNvPr id="54" name="上矢印 4"/>
          <p:cNvSpPr/>
          <p:nvPr/>
        </p:nvSpPr>
        <p:spPr>
          <a:xfrm>
            <a:off x="2700360" y="2133720"/>
            <a:ext cx="484200" cy="2849400"/>
          </a:xfrm>
          <a:prstGeom prst="upArrow">
            <a:avLst>
              <a:gd name="adj1" fmla="val 50000"/>
              <a:gd name="adj2" fmla="val 4999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934720" y="620640"/>
            <a:ext cx="313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下の直方体は、１辺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cm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の正方形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どのように動かしてでき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1979640" y="2708280"/>
            <a:ext cx="4824360" cy="2808360"/>
          </a:xfrm>
          <a:prstGeom prst="cube">
            <a:avLst>
              <a:gd name="adj" fmla="val 24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2700360" y="2708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2700360" y="479736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1979640" y="479736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499400" y="407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1931040" y="2492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307760" y="20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rcRect l="9037" t="31118" r="17049" b="13762"/>
          <a:stretch/>
        </p:blipFill>
        <p:spPr>
          <a:xfrm>
            <a:off x="23760" y="1549440"/>
            <a:ext cx="9120240" cy="5335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23760" y="115920"/>
            <a:ext cx="90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下の①～⑦で、１辺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c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正方形を動かしてできた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みることができる立体はどれでしょう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た、その立体は正方形をどのように動かしてできるでしょう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0:37:45Z</dcterms:created>
  <dc:creator>teacher</dc:creator>
  <dc:description/>
  <dc:language>en-US</dc:language>
  <cp:lastModifiedBy>iwachu-20</cp:lastModifiedBy>
  <dcterms:modified xsi:type="dcterms:W3CDTF">2011-12-08T03:45:23Z</dcterms:modified>
  <cp:revision>11</cp:revision>
  <dc:subject/>
  <dc:title>スライド 1</dc:title>
</cp:coreProperties>
</file>